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8C1-E0FD-4563-9878-09699738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0DC-8D04-46C7-BB61-469D1671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97A-D994-4B8A-8FC5-599829E8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73C-62FA-4259-AE25-C1D579B4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601-882A-4A0E-9834-7F12DC9F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D82-9E42-4ABC-A988-6CDF76BE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BCD-6243-4B5D-8AF3-9DB0FC42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3DC-FACF-4B97-8629-2AD49FE0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0D3-3AC3-47B8-92FE-622BD6DB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ED3-D33B-4583-A7F5-9F9A762C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108-C4CB-47D3-BD90-5D03846E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553-2C17-4A05-85AA-A81D763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874A-377A-4280-9B71-EB8F3258C950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4/Socrates_Louvr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 u="sng">
                <a:solidFill>
                  <a:srgbClr val="000000"/>
                </a:solidFill>
                <a:uFillTx/>
                <a:latin typeface="Snap ITC"/>
              </a:rPr>
              <a:t>Sok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Laget av Ida S., 2st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ilde:Socrates Louv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773360"/>
            <a:ext cx="318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 u="sng">
                <a:solidFill>
                  <a:srgbClr val="000000"/>
                </a:solidFill>
                <a:uFillTx/>
                <a:latin typeface="Snap ITC"/>
              </a:rPr>
              <a:t>Sok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ødt 470 f.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losof i antikkens Hel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Dømt til døden i 399 f.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784520"/>
            <a:ext cx="417492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Tidlig i liv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ødt i At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ar – billedhogger, mor – jordm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Arbeidet på steinhoggeriet hos fa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Gift med Xantip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kk 3 sø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Militærtjene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o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0448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Filosofi/etik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Definisjoner og begrepsanal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Riktig kunnskap </a:t>
            </a:r>
            <a:r>
              <a:rPr b="0" lang="nb-N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 riktig hand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En av grunnleggerne av humanistisk filosof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Spørre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Lærer til filosofen Pla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07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Ki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ndy"/>
              </a:rPr>
              <a:t>http://www.daria.no/skole/?tekst=59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ndy"/>
              </a:rPr>
              <a:t>http://no.wikipedia.org/wiki/Sok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3:29:09Z</dcterms:created>
  <dc:creator>Steinstad</dc:creator>
  <dc:description/>
  <dc:language>en-US</dc:language>
  <cp:lastModifiedBy>Holdhus</cp:lastModifiedBy>
  <dcterms:modified xsi:type="dcterms:W3CDTF">2008-03-14T11:23:34Z</dcterms:modified>
  <cp:revision>4</cp:revision>
  <dc:subject/>
  <dc:title>Sokrates</dc:title>
</cp:coreProperties>
</file>