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300-E495-4EF3-9B15-DF296668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88A-C174-4C92-A4A8-EE4DF092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889-81F0-49C6-B12B-4F7031EE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D22-CD1D-4C50-9FC1-1CA8172C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D67-7CEE-42AC-8C7D-CE6C8CC5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366-2155-40C0-A83F-F93BD6E2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B13-024A-488E-A222-33EEAA20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D2F-DE31-4F37-B69A-582A9905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803-D8D9-46CD-AF48-4AA9ECE2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E4C-A8E0-4349-BAFD-0D00D7D9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DD7-E71C-4674-81C9-4AF0628F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7EF-2309-4A6B-BBF1-25386D5F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7FD-D70F-4284-AF67-C25628C7D150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4/Socrates_Louvr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 u="sng">
                <a:solidFill>
                  <a:srgbClr val="000000"/>
                </a:solidFill>
                <a:uFillTx/>
                <a:latin typeface="Snap ITC"/>
              </a:rPr>
              <a:t>Sok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Laget av Ida S., 2st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ilde:Socrates Louv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773360"/>
            <a:ext cx="318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 u="sng">
                <a:solidFill>
                  <a:srgbClr val="000000"/>
                </a:solidFill>
                <a:uFillTx/>
                <a:latin typeface="Snap ITC"/>
              </a:rPr>
              <a:t>Sok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ødt 470 f.K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losof i antikkens Hel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Dømt til døden i 399 f.K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1784520"/>
            <a:ext cx="417492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Tidlig i liv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ødt i At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ar – billedhogger, mor – jordm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Arbeidet på steinhoggeriet hos fa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Gift med Xantip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kk 3 sø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Militærtjene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o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0448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Filosofi/etik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Definisjoner og begrepsanaly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Riktig kunnskap </a:t>
            </a:r>
            <a:r>
              <a:rPr b="0" lang="nb-N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 riktig hand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En av grunnleggerne av humanistisk filosof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Spørre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Lærer til filosofen Pla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07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Ki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ndy"/>
              </a:rPr>
              <a:t>http://www.daria.no/skole/?tekst=59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ndy"/>
              </a:rPr>
              <a:t>http://no.wikipedia.org/wiki/Sok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3:29:09Z</dcterms:created>
  <dc:creator>Steinstad</dc:creator>
  <dc:description/>
  <dc:language>en-US</dc:language>
  <cp:lastModifiedBy>Holdhus</cp:lastModifiedBy>
  <dcterms:modified xsi:type="dcterms:W3CDTF">2008-03-14T11:23:34Z</dcterms:modified>
  <cp:revision>4</cp:revision>
  <dc:subject/>
  <dc:title>Sokrates</dc:title>
</cp:coreProperties>
</file>