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467-8509-4803-82BB-B7F49293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2E7-B528-4D5A-9D4F-BA0E4540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450-1D29-4034-9F42-05DBE2F1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C1C-3F1A-4415-92AE-16CA06FB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C8E-F4EC-4D18-A33C-CE27A71A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178-C423-46E5-A672-542D6D33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EBC-22EE-423E-9262-78F2729E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2A4-A4B1-4592-B7DD-8D8C7639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5DE-4FE9-4051-825E-EEB00F1C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5AD-248C-476D-801B-092344A9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398-AFA4-49BA-9F61-1B5C1B5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EFF-F8B7-44DA-B550-0D7EB2C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F357-58FD-45CC-B802-79D2018D1F65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4/Socrates_Louvr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 u="sng">
                <a:solidFill>
                  <a:srgbClr val="000000"/>
                </a:solidFill>
                <a:uFillTx/>
                <a:latin typeface="Snap ITC"/>
              </a:rPr>
              <a:t>Sok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Laget av Ida S., 2st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ilde:Socrates Louv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773360"/>
            <a:ext cx="318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 u="sng">
                <a:solidFill>
                  <a:srgbClr val="000000"/>
                </a:solidFill>
                <a:uFillTx/>
                <a:latin typeface="Snap ITC"/>
              </a:rPr>
              <a:t>Sok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ødt 470 f.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losof i antikkens Hel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Dømt til døden i 399 f.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784520"/>
            <a:ext cx="417492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Tidlig i liv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ødt i At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ar – billedhogger, mor – jordm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Arbeidet på steinhoggeriet hos fa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Gift med Xantip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kk 3 sø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Militærtjene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o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0448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Filosofi/etik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Definisjoner og begrepsanal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Riktig kunnskap </a:t>
            </a:r>
            <a:r>
              <a:rPr b="0" lang="nb-N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 riktig hand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En av grunnleggerne av humanistisk filosof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Spørre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Lærer til filosofen Pla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07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Ki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ndy"/>
              </a:rPr>
              <a:t>http://www.daria.no/skole/?tekst=59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ndy"/>
              </a:rPr>
              <a:t>http://no.wikipedia.org/wiki/Sok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3:29:09Z</dcterms:created>
  <dc:creator>Steinstad</dc:creator>
  <dc:description/>
  <dc:language>en-US</dc:language>
  <cp:lastModifiedBy>Holdhus</cp:lastModifiedBy>
  <dcterms:modified xsi:type="dcterms:W3CDTF">2008-03-14T11:23:34Z</dcterms:modified>
  <cp:revision>4</cp:revision>
  <dc:subject/>
  <dc:title>Sokrates</dc:title>
</cp:coreProperties>
</file>