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D51-EF9E-448F-9385-2D6003F4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1D7-0BE3-4836-9FB3-6AC394B5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F84-EB7B-4066-BD70-390EFDB9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C7A-1197-4C00-82F8-FD18FB0A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B04-6013-4BD4-8828-F661999F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285-FC54-4ED7-86A7-69B7C277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40B-3F78-41A2-883B-E10E8202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64B-6101-4769-AAEE-85932DE2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8B6-D210-4D62-BD1C-1BB1AFF5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9CD-052A-46BD-830F-AB222E25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40C-D718-4381-A9E4-69132FC0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39E-1DB4-43ED-A832-C82BEC77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03B5-8A6F-462D-9242-40D4F47CE926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4/Socrates_Louvr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 u="sng">
                <a:solidFill>
                  <a:srgbClr val="000000"/>
                </a:solidFill>
                <a:uFillTx/>
                <a:latin typeface="Snap ITC"/>
              </a:rPr>
              <a:t>Sok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Laget av Ida S., 2st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ilde:Socrates Louv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773360"/>
            <a:ext cx="318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 u="sng">
                <a:solidFill>
                  <a:srgbClr val="000000"/>
                </a:solidFill>
                <a:uFillTx/>
                <a:latin typeface="Snap ITC"/>
              </a:rPr>
              <a:t>Sok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ødt 470 f.K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losof i antikkens Hell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Dømt til døden i 399 f.K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1784520"/>
            <a:ext cx="417492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Snap ITC"/>
              </a:rPr>
              <a:t>Tidlig i liv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ødt i At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ar – billedhogger, mor – jordm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Arbeidet på steinhoggeriet hos fa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Gift med Xantip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kk 3 sø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Militærtjene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o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0448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Snap ITC"/>
              </a:rPr>
              <a:t>Filosofi/etik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Definisjoner og begrepsanaly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Riktig kunnskap </a:t>
            </a:r>
            <a:r>
              <a:rPr b="0" lang="nb-N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 riktig hand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En av grunnleggerne av humanistisk filosof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Spørre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ndy"/>
              </a:rPr>
              <a:t>Lærer til filosofen Pla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07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Snap ITC"/>
              </a:rPr>
              <a:t>Ki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ndy"/>
              </a:rPr>
              <a:t>http://www.daria.no/skole/?tekst=59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ndy"/>
              </a:rPr>
              <a:t>http://no.wikipedia.org/wiki/Sok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3:29:09Z</dcterms:created>
  <dc:creator>Steinstad</dc:creator>
  <dc:description/>
  <dc:language>en-US</dc:language>
  <cp:lastModifiedBy>Holdhus</cp:lastModifiedBy>
  <dcterms:modified xsi:type="dcterms:W3CDTF">2008-03-14T11:23:34Z</dcterms:modified>
  <cp:revision>4</cp:revision>
  <dc:subject/>
  <dc:title>Sokrates</dc:title>
</cp:coreProperties>
</file>